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1.wmf" ContentType="image/x-wmf"/>
  <Override PartName="/ppt/media/image3.png" ContentType="image/png"/>
  <Override PartName="/ppt/media/image7.png" ContentType="image/png"/>
  <Override PartName="/ppt/media/image15.wmf" ContentType="image/x-wmf"/>
  <Override PartName="/ppt/media/image8.png" ContentType="image/png"/>
  <Override PartName="/ppt/media/image16.wmf" ContentType="image/x-wmf"/>
  <Override PartName="/ppt/media/image6.jpeg" ContentType="image/jpeg"/>
  <Override PartName="/ppt/media/image5.wmf" ContentType="image/x-wmf"/>
  <Override PartName="/ppt/media/image22.png" ContentType="image/png"/>
  <Override PartName="/ppt/media/image4.wmf" ContentType="image/x-wmf"/>
  <Override PartName="/ppt/media/image20.wmf" ContentType="image/x-wmf"/>
  <Override PartName="/ppt/media/image9.jpeg" ContentType="image/jpeg"/>
  <Override PartName="/ppt/media/image21.wmf" ContentType="image/x-wmf"/>
  <Override PartName="/ppt/media/image19.wmf" ContentType="image/x-wmf"/>
  <Override PartName="/ppt/media/image18.jpeg" ContentType="image/jpeg"/>
  <Override PartName="/ppt/media/image17.wmf" ContentType="image/x-wmf"/>
  <Override PartName="/ppt/media/image14.wmf" ContentType="image/x-wmf"/>
  <Override PartName="/ppt/media/image1.png" ContentType="image/png"/>
  <Override PartName="/ppt/media/image2.png" ContentType="image/png"/>
  <Override PartName="/ppt/media/image10.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675A1-0CAD-43B0-97E8-99CB301E2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E61F0-2814-4AAC-A04B-5904F441B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C6981-21E0-42A8-BF5B-6A6012F20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B8913-FB7E-4843-9465-7A18A4A0F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9BCC1-3EE0-46CB-BFEF-BFDF26061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D4B2E-EC79-418D-8E22-C45223EA6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D006D-B055-4E2C-9E8F-980A213F2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8C6EB-33E2-4C6B-90FB-F93519410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8CBF1-5983-4B49-86B8-5655EE88E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CE526-88AD-4E4E-B2DB-F77CAC720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BF01D-28A7-4DB1-88CE-220852A21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252C2-BA54-4B11-BCBA-A05B86AC8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E0AF6-1D6E-4B42-A4D4-120C06D97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2C86F-2851-42EC-8982-CA09C9DCB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DE100-A1C4-4740-9FBB-4596959D1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6FD41-13A0-4B5F-87D5-D4660C655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5C9D4-C01A-4ED9-B1D7-3FA22C46E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7ECCA-988F-429E-BBB0-03DA815B4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6536-44A9-4CE2-9D37-A80491C84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65379-D6C9-484F-828E-E9896D480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14262-5BDC-4C09-A5FD-84AF9E0EE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D27BB-ACD2-496C-805C-12F078775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CA96-E582-4149-AECC-FB846E4DD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DD511-1DC8-43C8-95CF-7F1ACC435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E8BF-3A77-4F49-AAD0-392B9D86D8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CEB0-0A1C-4FEC-ADDE-C1E3D11673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layer.discoveryeducation.com/index.cfm?guidAssetId=75578EEF-1B75-4880-B50B-AF9A0A15A629&amp;blnFromSearch=1&amp;productcode=US" TargetMode="External"/><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obacco</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opping</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y adult smokers want or try to quit smok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70% of smokers want to quit completely.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45% of smokers attempted to quit in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t is harmful!</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oking harms nearly every organ of the bod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ing causes many diseases and reduces the health of smokers in general. </a:t>
            </a:r>
            <a:endParaRPr b="0" lang="en-US" sz="3200" spc="-1" strike="noStrike">
              <a:solidFill>
                <a:srgbClr val="ffffff"/>
              </a:solidFill>
              <a:latin typeface="Arial"/>
            </a:endParaRPr>
          </a:p>
        </p:txBody>
      </p:sp>
      <p:pic>
        <p:nvPicPr>
          <p:cNvPr id="184" name="" descr=""/>
          <p:cNvPicPr/>
          <p:nvPr/>
        </p:nvPicPr>
        <p:blipFill>
          <a:blip r:embed="rId3"/>
          <a:stretch/>
        </p:blipFill>
        <p:spPr>
          <a:xfrm>
            <a:off x="4876920" y="4321080"/>
            <a:ext cx="1819080" cy="180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oking causes death…</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dverse health effects from cigarette smoking account for an estimated 443,000 deaths, or nearly one of every five deaths, each year in the United States.2,3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deaths are caused each year by tobacco use than by all deaths from human immunodeficiency virus (HIV), illegal drug use, alcohol use, motor vehicle injuries, suicides, and murders combined.2,4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 causes an estimated 90% of all lung cancer deaths in men and 80% of all lung cancer deaths in women.1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stimated 90% of all deaths from chronic obstructive lung disease are caused by smoking</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d with nonsmokers, smoking is estimated to increase the risk of—</a:t>
            </a:r>
            <a:br>
              <a:rPr sz="2800"/>
            </a:br>
            <a:endParaRPr b="0" lang="en-US" sz="28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ry heart disease by 2 to 4 times,1,5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ke by 2 to 4 times,1,6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developing lung cancer by 23 times,1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developing lung cancer by 13 times,1 and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ing from chronic obstructive lung diseases (such as chronic bronchitis and emphysema) by 12 to 13 tim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moking &amp; Cardiovascular Disease</a:t>
            </a:r>
            <a:endParaRPr b="0" lang="en-US" sz="40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 causes coronary heart disease, the leading cause of death in the United States.1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garette smoking causes reduced circulation by narrowing the blood vessels (arteries) and puts smokers at risk of developing peripheral vascular disease (i.e., obstruction of the large arteries in the arms and legs that can cause a range of problems from pain to tissue loss or gangrene).1,7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 causes abdominal aortic aneurysm (i.e., a swelling or weakening of the main artery of the body—the aorta—where it runs through the abdo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oking &amp; Respiratory Disease</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oking causes lung canc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ing causes lung diseases (e.g., emphysema, bronchitis, chronic airway obstruction) by damaging the airways and alveoli (i.e., small air sacs) of the lun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 descr=""/>
          <p:cNvPicPr/>
          <p:nvPr/>
        </p:nvPicPr>
        <p:blipFill>
          <a:blip r:embed="rId3"/>
          <a:stretch/>
        </p:blipFill>
        <p:spPr>
          <a:xfrm>
            <a:off x="5726160" y="4943520"/>
            <a:ext cx="1625400" cy="181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oking and Cancer</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causes the following cancer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myeloid leukemia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dder cancer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cervix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esophagus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dney cancer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larynx (voice box)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g cancer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oral cavity (mouth)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pharynx (throat)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mach cancer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uterus</a:t>
            </a:r>
            <a:endParaRPr b="0" lang="en-US" sz="2400" spc="-1" strike="noStrike">
              <a:solidFill>
                <a:srgbClr val="ffffff"/>
              </a:solidFill>
              <a:latin typeface="Arial"/>
            </a:endParaRPr>
          </a:p>
        </p:txBody>
      </p:sp>
      <p:pic>
        <p:nvPicPr>
          <p:cNvPr id="196" name="" descr=""/>
          <p:cNvPicPr/>
          <p:nvPr/>
        </p:nvPicPr>
        <p:blipFill>
          <a:blip r:embed="rId2"/>
          <a:stretch/>
        </p:blipFill>
        <p:spPr>
          <a:xfrm>
            <a:off x="6035760" y="2116080"/>
            <a:ext cx="260964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oking &amp; Other Health Effects</a:t>
            </a:r>
            <a:endParaRPr b="0" lang="en-US" sz="4400" spc="-1" strike="noStrike">
              <a:solidFill>
                <a:srgbClr val="ffff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oking has many adverse reproductive and early childhood effects, including increased risk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tility,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erm delivery,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llbirth,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birth weight, and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dden infant death syndrome (SID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verse health effects…</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oking is associated with the following adverse health eff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menopausal women who smoke have lower bone density than women who never smoked.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who smoke have an increased risk for hip fracture than women who never smoke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 descr=""/>
          <p:cNvPicPr/>
          <p:nvPr/>
        </p:nvPicPr>
        <p:blipFill>
          <a:blip r:embed="rId2"/>
          <a:stretch/>
        </p:blipFill>
        <p:spPr>
          <a:xfrm>
            <a:off x="5027760" y="4973760"/>
            <a:ext cx="1819080" cy="17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ignment</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 short essay (one paragraph) on how tobacco can negatively affect someone’s life.</a:t>
            </a:r>
            <a:endParaRPr b="0" lang="en-US" sz="3200" spc="-1" strike="noStrike">
              <a:solidFill>
                <a:srgbClr val="ffffff"/>
              </a:solidFill>
              <a:latin typeface="Arial"/>
            </a:endParaRPr>
          </a:p>
        </p:txBody>
      </p:sp>
      <p:pic>
        <p:nvPicPr>
          <p:cNvPr id="204" name="" descr=""/>
          <p:cNvPicPr/>
          <p:nvPr/>
        </p:nvPicPr>
        <p:blipFill>
          <a:blip r:embed="rId2"/>
          <a:stretch/>
        </p:blipFill>
        <p:spPr>
          <a:xfrm>
            <a:off x="3200400" y="3581280"/>
            <a:ext cx="3032280" cy="27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ell Activity</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bacco may be found in all of the following excep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Cigarett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 Snuff</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 Dip</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 Alcohol</a:t>
            </a:r>
            <a:endParaRPr b="0" lang="en-US" sz="3200" spc="-1" strike="noStrike">
              <a:solidFill>
                <a:srgbClr val="ffffff"/>
              </a:solidFill>
              <a:latin typeface="Arial"/>
            </a:endParaRPr>
          </a:p>
        </p:txBody>
      </p:sp>
      <p:pic>
        <p:nvPicPr>
          <p:cNvPr id="166" name="" descr=""/>
          <p:cNvPicPr/>
          <p:nvPr/>
        </p:nvPicPr>
        <p:blipFill>
          <a:blip r:embed="rId6"/>
          <a:stretch/>
        </p:blipFill>
        <p:spPr>
          <a:xfrm>
            <a:off x="5410080" y="3276720"/>
            <a:ext cx="1594080" cy="177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sson 2 </a:t>
            </a:r>
            <a:r>
              <a:rPr b="0" lang="en-US" sz="4000" spc="-1" strike="noStrike">
                <a:solidFill>
                  <a:srgbClr val="ffff00"/>
                </a:solidFill>
                <a:latin typeface="Arial"/>
              </a:rPr>
              <a:t>Bell Activity – Choose the best answer</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hand smoke is:</a:t>
            </a: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Harmful, no matter how long you are exposed.</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 Harmful if you are exposed for an hour or lon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 Harmful if you are exposed every day for a week.</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 Harmful if you are exposed for a long amount of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6</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will avoid second hand smoke.</a:t>
            </a:r>
            <a:endParaRPr b="0" lang="en-US" sz="3200" spc="-1" strike="noStrike">
              <a:solidFill>
                <a:srgbClr val="ffffff"/>
              </a:solidFill>
              <a:latin typeface="Arial"/>
            </a:endParaRPr>
          </a:p>
        </p:txBody>
      </p:sp>
      <p:pic>
        <p:nvPicPr>
          <p:cNvPr id="209" name="" descr=""/>
          <p:cNvPicPr/>
          <p:nvPr/>
        </p:nvPicPr>
        <p:blipFill>
          <a:blip r:embed="rId2"/>
          <a:stretch/>
        </p:blipFill>
        <p:spPr>
          <a:xfrm>
            <a:off x="2971800" y="3429000"/>
            <a:ext cx="3308400" cy="244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 Hand Smoke</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hand smoke is a mixture of gases and fine particles that include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 from a burning cigarette, cigar, or pipe tip</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 that has been exhaled or breathed out by the person or people smoking, and1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7,000 chemicals, including hundreds that are toxic and about 70 that can cause canc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does it happen?</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exposure to secondhand smoke occurs in homes and workplac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hand smoke exposure also continues to occur in public places such as restaurants, bars, and casinos and in private vehic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children, secondhand smoke causes the following:</a:t>
            </a:r>
            <a:br>
              <a:rPr sz="3200"/>
            </a:br>
            <a:endParaRPr b="0" lang="en-US" sz="3200" spc="-1" strike="noStrike">
              <a:solidFill>
                <a:srgbClr val="ffff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 infections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frequent and severe asthma attacks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iratory symptoms (e.g., coughing, sneezing, shortness of breath)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iratory infections (i.e., bronchitis, pneumonia)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reater risk for sudden infant death syndrome (SID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children aged 18 months or younger, secondhand smoke exposure is responsible f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stimated 150,000–300,000 new cases of bronchitis and pneumonia annually, and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ximately 7,500–15,000 hospitalizations annually in the United St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rt Disease</a:t>
            </a: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nonsmokers, breathing secondhand smoke has immediate harmful effects on the cardiovascular system that can increase the risk for heart attack.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who already have heart disease are at especially high ris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d…</a:t>
            </a: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smokers who are exposed to secondhand smoke at home or work increase their heart disease risk by 25–3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hand smoke exposure causes an estimated 46,000 heart disease deaths annually among adult nonsmokers in the United Sta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ung Cancer and Smoke</a:t>
            </a: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smokers who are exposed to secondhand smoke at home or work increase their lung cancer risk by 20–3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hand smoke exposure causes an estimated 3,400 lung cancer deaths annually among adult nonsmoker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d you know?</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re is no risk-free level of contact with secondhand smoke; even brief exposure can be harmful to health.</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5</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will avoid tobacco use.</a:t>
            </a:r>
            <a:endParaRPr b="0" lang="en-US" sz="3200" spc="-1" strike="noStrike">
              <a:solidFill>
                <a:srgbClr val="ffffff"/>
              </a:solidFill>
              <a:latin typeface="Arial"/>
            </a:endParaRPr>
          </a:p>
        </p:txBody>
      </p:sp>
      <p:pic>
        <p:nvPicPr>
          <p:cNvPr id="169" name="" descr=""/>
          <p:cNvPicPr/>
          <p:nvPr/>
        </p:nvPicPr>
        <p:blipFill>
          <a:blip r:embed="rId2"/>
          <a:stretch/>
        </p:blipFill>
        <p:spPr>
          <a:xfrm>
            <a:off x="3801960" y="3309840"/>
            <a:ext cx="1490760" cy="1649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happens?</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nonsmoker breathes in secondhand smoke, the body begins to metabolize or break down the nicotine that was in the smoke.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is process, a nicotine byproduct called cotinine is created.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sure to nicotine and secondhand smoke can be measured by testing saliva, urine, or blood for the presence of cotinine. </a:t>
            </a:r>
            <a:endParaRPr b="0" lang="en-US" sz="2800" spc="-1" strike="noStrike">
              <a:solidFill>
                <a:srgbClr val="ffffff"/>
              </a:solidFill>
              <a:latin typeface="Arial"/>
            </a:endParaRPr>
          </a:p>
        </p:txBody>
      </p:sp>
      <p:pic>
        <p:nvPicPr>
          <p:cNvPr id="227" name="" descr=""/>
          <p:cNvPicPr/>
          <p:nvPr/>
        </p:nvPicPr>
        <p:blipFill>
          <a:blip r:embed="rId4"/>
          <a:stretch/>
        </p:blipFill>
        <p:spPr>
          <a:xfrm>
            <a:off x="6881760" y="5303880"/>
            <a:ext cx="893880" cy="8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Away</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iminating smoking in indoor spaces is the only way to fully protect nonsmokers from secondhand smoke exposu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parating smokers from nonsmokers, cleaning the air, and ventilating buildings does not eliminate secondhand smoke exposu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0" name="" descr=""/>
          <p:cNvPicPr/>
          <p:nvPr/>
        </p:nvPicPr>
        <p:blipFill>
          <a:blip r:embed="rId3"/>
          <a:stretch/>
        </p:blipFill>
        <p:spPr>
          <a:xfrm>
            <a:off x="7315200" y="5105520"/>
            <a:ext cx="1270080" cy="143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okeless Tobacco</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main types of smokeless tobacco in the United States are chewing tobacco and snuff.</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okeless tobacco is </a:t>
            </a:r>
            <a:r>
              <a:rPr b="1" lang="en-US" sz="3200" spc="-1" strike="noStrike">
                <a:solidFill>
                  <a:srgbClr val="ffff00"/>
                </a:solidFill>
                <a:latin typeface="Arial"/>
              </a:rPr>
              <a:t>not</a:t>
            </a:r>
            <a:r>
              <a:rPr b="0" lang="en-US" sz="3200" spc="-1" strike="noStrike">
                <a:solidFill>
                  <a:srgbClr val="ffff00"/>
                </a:solidFill>
                <a:latin typeface="Arial"/>
              </a:rPr>
              <a:t> a safe alternative to smoking cigarett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less tobacco use can cause cancer, oral health problems, and nicotine addiction </a:t>
            </a:r>
            <a:endParaRPr b="0" lang="en-US" sz="3200" spc="-1" strike="noStrike">
              <a:solidFill>
                <a:srgbClr val="ffffff"/>
              </a:solidFill>
              <a:latin typeface="Arial"/>
            </a:endParaRPr>
          </a:p>
        </p:txBody>
      </p:sp>
      <p:pic>
        <p:nvPicPr>
          <p:cNvPr id="233" name="" descr=""/>
          <p:cNvPicPr/>
          <p:nvPr/>
        </p:nvPicPr>
        <p:blipFill>
          <a:blip r:embed="rId4"/>
          <a:stretch/>
        </p:blipFill>
        <p:spPr>
          <a:xfrm>
            <a:off x="4191120" y="5497560"/>
            <a:ext cx="2854080" cy="136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nuff</a:t>
            </a: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some forms of snuff can be used by sniffing or inhaling into the nose, most smokeless tobacco users place the product between their gum and cheek.</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rs suck or chew on the tobacco, and saliva can be spat out or swallowed.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bacco industry has also developed newer smokeless tobacco products such as lozenges, tablets, tabs, strips, and stick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Effects</a:t>
            </a: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cer</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mokeless tobacco contains 28 cancer-causing agents (carcinoge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eless tobacco is a known cause of human cancer; it increases the risk of developing cancer of the oral cavit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 descr=""/>
          <p:cNvPicPr/>
          <p:nvPr/>
        </p:nvPicPr>
        <p:blipFill>
          <a:blip r:embed="rId2"/>
          <a:stretch/>
        </p:blipFill>
        <p:spPr>
          <a:xfrm>
            <a:off x="5753160" y="4667400"/>
            <a:ext cx="2397240" cy="191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al Health</a:t>
            </a: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less tobacco is also strongly associated with leukoplakia—a precancerous lesion of the soft tissue in the mouth that consists of a white patch or plaque that cannot be scraped off.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less tobacco is associated with recession of the gums, gum disease, and tooth deca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 descr=""/>
          <p:cNvPicPr/>
          <p:nvPr/>
        </p:nvPicPr>
        <p:blipFill>
          <a:blip r:embed="rId3"/>
          <a:stretch/>
        </p:blipFill>
        <p:spPr>
          <a:xfrm>
            <a:off x="6400800" y="5554800"/>
            <a:ext cx="1255680" cy="1303200"/>
          </a:xfrm>
          <a:prstGeom prst="rect">
            <a:avLst/>
          </a:prstGeom>
          <a:ln w="0">
            <a:noFill/>
          </a:ln>
        </p:spPr>
      </p:pic>
      <p:pic>
        <p:nvPicPr>
          <p:cNvPr id="242" name="" descr=""/>
          <p:cNvPicPr/>
          <p:nvPr/>
        </p:nvPicPr>
        <p:blipFill>
          <a:blip r:embed="rId4"/>
          <a:stretch/>
        </p:blipFill>
        <p:spPr>
          <a:xfrm>
            <a:off x="698400" y="297000"/>
            <a:ext cx="1860480" cy="161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icotine Addiction</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okeless tobacco use can lead to nicotine addiction and depende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lescents who use smokeless tobacco are more likely to become cigarette smok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 SAFE!</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mokeless tobacco is not a safe substitute for smoking cigarettes.</a:t>
            </a:r>
            <a:r>
              <a:rPr b="0" lang="en-US"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scussion</a:t>
            </a: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smokeless tobacco affect a pers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second hand smoke harm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sson 3 </a:t>
            </a:r>
            <a:r>
              <a:rPr b="0" lang="en-US" sz="4400" spc="-1" strike="noStrike">
                <a:solidFill>
                  <a:srgbClr val="ffff00"/>
                </a:solidFill>
                <a:latin typeface="Arial"/>
              </a:rPr>
              <a:t>Bell Activity</a:t>
            </a: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bacco use is:</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Harmfu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 Illegal for anyone younger than 18</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 Not coo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 All of the abo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7</a:t>
            </a: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will not succumb to advertisements that are geared toward my age group when dealing with tobac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ruth </a:t>
            </a: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rPr>
              <a:t>The Truth About Tobacco</a:t>
            </a:r>
            <a:endParaRPr b="0" lang="en-US" sz="3200" spc="-1" strike="noStrike">
              <a:solidFill>
                <a:srgbClr val="ffffff"/>
              </a:solidFill>
              <a:latin typeface="Arial"/>
            </a:endParaRPr>
          </a:p>
        </p:txBody>
      </p:sp>
      <p:pic>
        <p:nvPicPr>
          <p:cNvPr id="255" name="" descr=""/>
          <p:cNvPicPr/>
          <p:nvPr/>
        </p:nvPicPr>
        <p:blipFill>
          <a:blip r:embed="rId3"/>
          <a:stretch/>
        </p:blipFill>
        <p:spPr>
          <a:xfrm>
            <a:off x="3657600" y="32004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obacco Use</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bacco use leads to disease and disabil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causes cancer, heart disease, stroke, and lung diseases (including emphysema, bronchitis, and chronic airway obstru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very person who dies from a smoking-related disease, 20 more people suffer with at least one serious illness from smo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obacco use is the leading preventable cause of de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ldwide, tobacco use causes more than 5 million deaths per year, and current trends show that tobacco use will cause more than 8 million deaths annually by 2030.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United States, tobacco use is responsible for about one in five deaths annually (i.e., about 443,000 deaths per year, and an estimated 49,000 of these tobacco-related deaths are the result of secondhand smoke exposur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verage, smokers die 13 to 14 years earlier than nonsmoke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2"/>
          <a:stretch/>
        </p:blipFill>
        <p:spPr>
          <a:xfrm>
            <a:off x="4371840" y="514836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igarette industry spends billions each year on advertising and pro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5 billion total spent in 2006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million spent a day in 2006</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 descr=""/>
          <p:cNvPicPr/>
          <p:nvPr/>
        </p:nvPicPr>
        <p:blipFill>
          <a:blip r:embed="rId2"/>
          <a:stretch/>
        </p:blipFill>
        <p:spPr>
          <a:xfrm>
            <a:off x="6553080" y="4191120"/>
            <a:ext cx="1846440" cy="230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bacco use costs the United States billions of dollars each ye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garette smoking costs more than $193 billion (i.e., $97 billion in lost productivity plus $96 billion in health care expenditure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hand smoke costs more than $10 billion (i.e., health care expenditures, morbidity, and mortality).</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centages</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age of U.S. adults who were current smokers in 2009:</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6% of all adults (46.6 million people)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3% of African American adult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2% of American Indian/Alaska Native adult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 of Asian American adult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5% of Hispanic adult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1% of white adult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18:24:46Z</dcterms:created>
  <dc:creator>Hope Whiting</dc:creator>
  <dc:description/>
  <dc:language>en-US</dc:language>
  <cp:lastModifiedBy>Hope Whiting</cp:lastModifiedBy>
  <dcterms:modified xsi:type="dcterms:W3CDTF">2011-06-22T19:44:35Z</dcterms:modified>
  <cp:revision>4</cp:revision>
  <dc:subject/>
  <dc:title>Tobacco</dc:title>
</cp:coreProperties>
</file>